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C0C-1050-40E6-95E1-46FB1048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2DD-19A5-4D2B-89AA-204542A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9EE-4969-410A-8F10-76D3D6EB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F40-02CB-4E95-91B9-FE7E62EC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9C6-E36B-47C1-AAE1-EB5487F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687-0090-4C0F-A0F4-F40D0B95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34-0032-418F-B40D-0B5A448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732-94FC-4873-A639-C55ACFD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CC0-8700-48C3-B868-535373BA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7F2-224D-4234-8B8A-48AFE1C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66A-C789-44B3-B496-82D2A62B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917-1D14-44E5-858D-C263F39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348C-F41B-413F-9CB4-6FE7E381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merikan Doğayı Koruma kuruluşlarının araştırmalarına göre dünyada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 torba kullanım adedi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ılda yaklaşık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 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ile 1 trilyon adet arası değişmektedi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Geographic News September 2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nun içindir ki,Kuzey kutbund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tzberge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yakınlarınd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d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kland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alarına kadar geniş bir çevrede, denizde yüzeyinde sık sık plastik torbalara rastlan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33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ritish Antarctic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lution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lar, Amerikan sahillerinden toplanan atıkların %10’unu teşkil et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ational Marine Debris Monitor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şık, plastik torbalarda kimyasal çözümlemelere neden olur. 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Zaman içinde daha küçük ancak daha zehirli petro-polimerlere bölünürl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... bunlar da topraklarımızı ve sularımızı zehi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Sonuçta, bu mikroskopik partiküller besin zincirine gir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3640" cy="542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te o zaman doğal hayatın geleceği enikonu tehlike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lina, yunus, fok, deniz kaplumbağalarından başlayarak yaklaşı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0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deniz canlısı, plastik torbalar nedeni ile hayatını kayb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e minke whale carcase at Scalloway marina on Monday morning. Photo: Jim Nicolson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2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uşlar boğulu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10480" cy="483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esin sanarak yuttukları plastiği hazmedemeyen kaplumbağalar ölü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torbaların geri dönüştürülen miktarı ancak %1dir. Bir torbanın geri kazanımı, yenisini üretmekten kat kat pah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hristian Science Monitor New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özüm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ez torba kullanmak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ftada 6 plastik torbayı kullanımdan çıkartmış olur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Bu da ayda 24 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Yıld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88 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Ortalama bir yaşam süresin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de,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,176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torba e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lkemizde he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şiden sade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 bunu yapsa, yaşamımız süresince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31.046.400.000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lastik torba kullanımdan kalkmış o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ngladesh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mışt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SNBC.com March 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in, kullanımını paralı yapmışt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2847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landa, Avrupa’da bir ilk olara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2002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’de plastik torbaları vergilendirdi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ugüne kadar plastik torba kullanımında %90 azalma kaydedildi.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BC News August 20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t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wanda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d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ssociat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Geri dönüşüm projelerinc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 ton plasti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orbanın işlenme ve dönüşüm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,000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a mal olurken, bunların bilahare yeni olarak marketlere satışı sade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2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920" y="4572000"/>
            <a:ext cx="80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Director of San Francisco's Department of the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d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tı Hindis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otswana, Kenya, Tanzani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fr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Taiwan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ga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se, yasaklandı ya da yasaklanma yolunda adımlar atıld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PlanetSave.com Febr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320040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7 Mar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007, San Francisco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Amerika’da plastik torba kullanımını ilk yasaklayan şehir ol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akland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oston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yasaklama yolunda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The Boston Globe May 2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lışveriş torbaları, petrol türevi bir termoplastik olan polietilen mamulüdü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olayısile plastik torba kullanımındaki azalma, bir ülkenin dışa olan bağımlılığında da bir azalma demektir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in, sadece torbaları paralı yapmakla, her yı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7 mil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y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fıçı petrol tasarruf edec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0360" y="1704960"/>
            <a:ext cx="3732120" cy="4971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Demek ki...bir şeyler yapmak mümkü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, bunca torba nereye gidiyor?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teki bir araştırmaya gö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yanuslarda dolaşan gemiler yılda yaklaşık 3.700.000kg. plastik torbayı denizlere boşaltırlar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ya yüzeyi henüz bir plastik çöplüğüne dönmemişse, bunun nedeni denizlerin dibinin çöplük olarak kullanılmas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U.S. National Academy of Sc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oğaya bırakılan torbaları rüzgar uçurarak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59436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En ücra noktalara kadar ulaştır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Izgaralardan sızarak kanalizasyon yolu 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eniz, göl ve nehirlere varır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00:08Z</dcterms:created>
  <dc:creator>hP</dc:creator>
  <dc:description/>
  <cp:keywords/>
  <dc:language>en-US</dc:language>
  <cp:lastModifiedBy>hP</cp:lastModifiedBy>
  <dcterms:modified xsi:type="dcterms:W3CDTF">2008-06-03T13:11:46Z</dcterms:modified>
  <cp:revision>2</cp:revision>
  <dc:subject/>
  <dc:title>Amerikan Doğayı Koruma kuruluşlarının araştırmalarına göre dünyada plastik torba kullanım adedi yılda yaklaşık 500 milyon ile 1 trilyon adet arası değişmektedir.  National Geographic News September 2, 2003</dc:title>
</cp:coreProperties>
</file>